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F631-27A0-4D2E-B333-AEE62BF87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1A6F-A8D9-4196-93F6-84D3DBCE9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C3D8-F404-4C41-8E2D-6873B5E80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9163-C3C2-4E47-A9B9-98631991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online.science.psu.edu/biol011_sandbox_7239/node/73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38C4-8E8B-4C3C-B779-60CE80E82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D3D0-0192-47E2-B077-A8E35395A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1765-E2F5-44A2-94ED-54B03FA12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hbrainsandbeauty.com/academic-discussions/chemistry-academic-discussions/functional-groups-429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yl - in alcohols, carbohydrates, steroids, some amino ac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- nucleic acids, ATP, som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yl - in ketones &amp; aldehy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hydryl - some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 - in amino acids, fatt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- in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dlc.dcccd.edu/biology1-3/functional-groups-and-bi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ems like a great website for reviewing the functional groups</a:t>
            </a:r>
            <a:r>
              <a:rPr b="0" lang="is-IS" sz="1200" spc="-1" strike="noStrike">
                <a:solidFill>
                  <a:srgbClr val="000000"/>
                </a:solidFill>
                <a:latin typeface="Arial"/>
              </a:rPr>
              <a:t>…interactive review too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C1AE-26EF-473B-B341-A05EEB32D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9012-72F4-4045-8562-C76416239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9550-4E6C-40B6-97FC-038BFBDCF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9C3D-CB37-4ABA-B146-074D7ABE7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uwgb.edu/dutchs/EarthSC202Notes/minera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F96E-075A-4DFB-B41B-BB61BBF4E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http://www.britannica.co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8865-2993-4592-9443-6499D48E4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talog.flatworldknowledge.com/bookhub/4309?e=averill_1.0-ch08_s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0454-5870-4558-B60D-94BEC2B43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4573-DF12-4BDE-BEFE-3A43E7232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800mainstreet.com/5/0005-009-polar-molecul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849B-2558-49A3-9849-8C9D208F1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: http://www.elmhurst.edu/~chm/vchembook/171solublesal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F0A3-2145-4659-8503-AAB3290FA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hem.ufl.edu/~itl/4411/lectures/lec_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76E-DA21-494C-B03B-83FB97ED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AB7-CE34-4528-BC14-1B4AAEC0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41C-FF75-40CC-9C75-28AADC4D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EB8-7159-4F5F-A44B-D4C5A753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37C-67D3-441B-8C0A-56134408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43E-226E-4E29-8358-2EC532C5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04E-FF21-40CA-A347-FAFA1B2D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167-B3F1-4356-8A43-5E4E25DC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A2E-13C4-43F0-B916-C0F5375B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4E5-3ACD-485B-9BAE-70C5558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BD3-963A-49AF-A979-8FB1450B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3C8-7B6D-4A11-9859-41040348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29F1-2229-4F84-B36A-D6FB58971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Macr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.1 - 1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-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38826137"/>
          <p:cNvPicPr/>
          <p:nvPr/>
        </p:nvPicPr>
        <p:blipFill>
          <a:blip r:embed="rId1"/>
          <a:stretch/>
        </p:blipFill>
        <p:spPr>
          <a:xfrm>
            <a:off x="1170000" y="1981080"/>
            <a:ext cx="680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relate to its chemical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sion (high surface 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esion (capillary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form less dense than liqui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actions: Re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Content Placeholder 3" descr="Fig-4-1-Redox-Reaction.gif"/>
          <p:cNvPicPr/>
          <p:nvPr/>
        </p:nvPicPr>
        <p:blipFill>
          <a:blip r:embed="rId1"/>
          <a:srcRect l="0" t="-4885" r="0" b="-4885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lusters of atoms attached to the carbon backb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groups react in characteristic ways, giving chemical properties to macromolecules, and are involved in most reactions in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functional-groups"/>
          <p:cNvPicPr/>
          <p:nvPr/>
        </p:nvPicPr>
        <p:blipFill>
          <a:blip r:embed="rId1"/>
          <a:stretch/>
        </p:blipFill>
        <p:spPr>
          <a:xfrm>
            <a:off x="2496960" y="1981080"/>
            <a:ext cx="414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3" descr="phosphate_group.jpg"/>
          <p:cNvPicPr/>
          <p:nvPr/>
        </p:nvPicPr>
        <p:blipFill>
          <a:blip r:embed="rId1"/>
          <a:srcRect l="-15344" t="0" r="-1534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large molecules that are often composed of repeating sub-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biologically important macromolecu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stry of organic compounds, which form the basis of all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ompounds contain carbon and hydrogen, and usually other elements such as nitrogen, sulfur and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&amp; Covalent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ion-cov"/>
          <p:cNvPicPr/>
          <p:nvPr/>
        </p:nvPicPr>
        <p:blipFill>
          <a:blip r:embed="rId1"/>
          <a:stretch/>
        </p:blipFill>
        <p:spPr>
          <a:xfrm>
            <a:off x="1851120" y="1981080"/>
            <a:ext cx="544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7341-004-F7ABCC46"/>
          <p:cNvPicPr/>
          <p:nvPr/>
        </p:nvPicPr>
        <p:blipFill>
          <a:blip r:embed="rId1"/>
          <a:stretch/>
        </p:blipFill>
        <p:spPr>
          <a:xfrm>
            <a:off x="685800" y="2133720"/>
            <a:ext cx="80010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averillfwk-fig08_011"/>
          <p:cNvPicPr/>
          <p:nvPr/>
        </p:nvPicPr>
        <p:blipFill>
          <a:blip r:embed="rId1"/>
          <a:stretch/>
        </p:blipFill>
        <p:spPr>
          <a:xfrm>
            <a:off x="2262240" y="1981080"/>
            <a:ext cx="46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ty of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ty of bonds in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 of mole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ity of molecules or functional groups determines characteristics such as 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2O_geom_partial_charges_CS"/>
          <p:cNvPicPr/>
          <p:nvPr/>
        </p:nvPicPr>
        <p:blipFill>
          <a:blip r:embed="rId1"/>
          <a:stretch/>
        </p:blipFill>
        <p:spPr>
          <a:xfrm>
            <a:off x="7772400" y="2286000"/>
            <a:ext cx="933480" cy="67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BF3_geometry_partial_charge"/>
          <p:cNvPicPr/>
          <p:nvPr/>
        </p:nvPicPr>
        <p:blipFill>
          <a:blip r:embed="rId2"/>
          <a:stretch/>
        </p:blipFill>
        <p:spPr>
          <a:xfrm>
            <a:off x="6705720" y="3124080"/>
            <a:ext cx="1228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0005-009-samplesshap"/>
          <p:cNvPicPr/>
          <p:nvPr/>
        </p:nvPicPr>
        <p:blipFill>
          <a:blip r:embed="rId1"/>
          <a:stretch/>
        </p:blipFill>
        <p:spPr>
          <a:xfrm>
            <a:off x="685800" y="744480"/>
            <a:ext cx="77724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171saltdissolve"/>
          <p:cNvPicPr/>
          <p:nvPr/>
        </p:nvPicPr>
        <p:blipFill>
          <a:blip r:embed="rId1"/>
          <a:stretch/>
        </p:blipFill>
        <p:spPr>
          <a:xfrm>
            <a:off x="685800" y="2189160"/>
            <a:ext cx="3886200" cy="407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71saltdissolve2"/>
          <p:cNvPicPr/>
          <p:nvPr/>
        </p:nvPicPr>
        <p:blipFill>
          <a:blip r:embed="rId2"/>
          <a:stretch/>
        </p:blipFill>
        <p:spPr>
          <a:xfrm>
            <a:off x="4648320" y="2228760"/>
            <a:ext cx="3809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olecular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g12_02b"/>
          <p:cNvPicPr/>
          <p:nvPr/>
        </p:nvPicPr>
        <p:blipFill>
          <a:blip r:embed="rId1"/>
          <a:stretch/>
        </p:blipFill>
        <p:spPr>
          <a:xfrm>
            <a:off x="325440" y="1600200"/>
            <a:ext cx="8493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7-02-09T11:22:36Z</dcterms:modified>
  <cp:revision>167</cp:revision>
  <dc:subject/>
  <dc:title>Organic Chemistry</dc:title>
</cp:coreProperties>
</file>